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97737-FE6B-476A-A626-70B7348380A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gebra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r. Clu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llegas Middle Scho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gebra I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r. Clutt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illegas Middle Schoo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bra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006-200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Algebraic Expressi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ese Word Phr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umber s plus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umber decrease by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1 less than a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umber b increased by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m of a number &amp;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 more than a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+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 -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- 3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 +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+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 + 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rite Algebraic Expressions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r These Word Phra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number s plus 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number decrease by 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1 less than a numb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number b increased by 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sum of a number &amp; 6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9 more than a numb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 + 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 - 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 - 3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 + 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+ 6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z + 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aluate each algebraic expression when x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+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+ 4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+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– x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-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2 -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valuate each algebraic expression when x = 1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 + 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 + 4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 + 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 – x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 - 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2 - 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This 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plete This Tabl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This 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plete This Tabl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an Algebraic Expression for These Sit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ott’s brother is 2 years younger than Scot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m of two numbers is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fference between two numbers is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+ c =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– n =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rite an Algebraic Expression for These Situa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cott’s brother is 2 years younger than Scot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sum of two numbers is 1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difference between two numbers is 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 - 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 + c = 1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 – n = 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ble – A variable is a letter or symbol that represents a number (unknown quantity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+ n =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ini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ariable – A variable is a letter or symbol that represents a number (unknown quantity)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8 + n = 1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ariable can use any letter of the alphab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+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–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- 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ini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variable can use any letter of the alphabe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+ 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 – 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 - 2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gebraic expression – a group of numbers, symbols, and variables that express an operation or a series of oper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+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–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ini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gebraic expression – a group of numbers, symbols, and variables that express an operation or a series of operation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 + 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 – 3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aluate an algebraic expression – To find the value of an algebraic expression by substituting numbers for variab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+ 8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+ 8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– 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= 5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– 3 =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ini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valuate an algebraic expression – To find the value of an algebraic expression by substituting numbers for variabl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 + 8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 = 2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 + 8 = 1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 – 3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 = 5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 – 3 = 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plify – Combine like terms and complete all oper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+ 8 + 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 +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2 x 2) + 8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+ 8 = 1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ini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implify – Combine like terms and complete all opera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 = 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 + 8 + m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 m + 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(2 x 2) + 8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 + 8 = 12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ds That Lead to Add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th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rea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oge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ords That Lead to Addi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re tha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creas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lu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togeth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ds That Lead to Subt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rea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m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ords That Lead to Subtra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creas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s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fferenc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nu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 many mor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Algebraic Expressi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ese Word Phr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n more than a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umber decrease by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less than a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umber increased by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m of a number &amp; 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ore than a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+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-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-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+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+ 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+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rite Algebraic Expressions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r These Word Phra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en more than a numb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number decrease by 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6 less than a numb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number increased by 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sum of a number &amp; 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 more than a numb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+ 1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 - 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 - 6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+ 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+ 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 + 4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9E44-C2B9-4422-8916-9FA627426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6AC3-F475-4BC5-ADAB-D2EB108B0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2A6F-9AC1-4945-B28B-0F7F1ACBD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DCBD-E3F7-41D6-974E-87C790AD3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A6FED-B839-4A81-9313-0648E3D9C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942BF-BA25-4EA4-9953-8316EC478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16696-55AA-45F5-BBD2-FB90AAE1A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151B9-3392-403F-8DD0-26E2FEB24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A8AC9-2C0A-478F-A3E6-D5B840E24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E2A4C-E512-4AD5-904B-D0C83271B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5E626-E9B4-432B-869E-F5BFCEA0E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2CBD-1859-41CD-8B8D-EA0B2386A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A039C-709B-4EF8-BEAB-262DE40FF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D6B5F-4062-4AC1-A38E-853A165D5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57001-4795-452C-9437-E50375014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F8C1A-DF51-4F30-9640-3EF03B576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1B19C-B164-4E4B-9CD4-89BA7B87F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69DE-C73E-41C0-98A0-906E2D6A1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2837-D5CA-451D-A350-20551CE89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8B5E-A9D2-4828-A46D-631881468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7B56-557B-43FE-AF5F-9FBC4FC7D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59CC-7A69-4FEA-8951-B31D7097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E6B1-C5CD-4A30-8C90-466A92C65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EA82-AC14-4B84-93D3-DFC94CEDA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2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3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4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EBD7C-D126-4557-9255-3ADF66F2DB0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030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1026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1027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1028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1029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026A2-A9B9-405C-AE22-CC181D9A0F3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Algebra I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r. Clutt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illegas Middle Schoo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ibrar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2006-2007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rite Algebraic Expressions</a:t>
            </a:r>
            <a:br>
              <a:rPr sz="4400"/>
            </a:b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for These Word Phras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-360" y="2057040"/>
            <a:ext cx="6629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 number s plus 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 number decrease by 1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31 less than a numbe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 number b increased by 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he sum of a number &amp; 6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9 more than a numbe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6918840" y="2004840"/>
            <a:ext cx="127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 + 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6934320" y="2819520"/>
            <a:ext cx="1617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k - 1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6933960" y="3657600"/>
            <a:ext cx="1488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x - 31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6934680" y="4495680"/>
            <a:ext cx="133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 + 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6934680" y="5257800"/>
            <a:ext cx="133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 + 6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6934320" y="6095880"/>
            <a:ext cx="1600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z + 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valuate each algebraic expression when x = 10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09680" y="2057040"/>
            <a:ext cx="24386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x + 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x + 4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x + x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x – x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x - 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42 - x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5944320" y="20574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1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6019920" y="2819520"/>
            <a:ext cx="1617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5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6019920" y="3657600"/>
            <a:ext cx="742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20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6249600" y="4572000"/>
            <a:ext cx="461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6249600" y="5257800"/>
            <a:ext cx="461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6019920" y="6019920"/>
            <a:ext cx="1600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3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omplete This Tabl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438280" y="2209680"/>
          <a:ext cx="4419720" cy="3810240"/>
        </p:xfrm>
        <a:graphic>
          <a:graphicData uri="http://schemas.openxmlformats.org/drawingml/2006/table">
            <a:tbl>
              <a:tblPr/>
              <a:tblGrid>
                <a:gridCol w="2210040"/>
                <a:gridCol w="220968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n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n - 3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5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0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21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32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Text Box 44"/>
          <p:cNvSpPr/>
          <p:nvPr/>
        </p:nvSpPr>
        <p:spPr>
          <a:xfrm>
            <a:off x="5487480" y="29718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Text Box 45"/>
          <p:cNvSpPr/>
          <p:nvPr/>
        </p:nvSpPr>
        <p:spPr>
          <a:xfrm>
            <a:off x="5487480" y="37339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Text Box 46"/>
          <p:cNvSpPr/>
          <p:nvPr/>
        </p:nvSpPr>
        <p:spPr>
          <a:xfrm>
            <a:off x="5334480" y="449568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1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Text Box 47"/>
          <p:cNvSpPr/>
          <p:nvPr/>
        </p:nvSpPr>
        <p:spPr>
          <a:xfrm>
            <a:off x="5334120" y="5257800"/>
            <a:ext cx="74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2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omplete This Tabl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438280" y="2209680"/>
          <a:ext cx="4419720" cy="3810240"/>
        </p:xfrm>
        <a:graphic>
          <a:graphicData uri="http://schemas.openxmlformats.org/drawingml/2006/table">
            <a:tbl>
              <a:tblPr/>
              <a:tblGrid>
                <a:gridCol w="2210040"/>
                <a:gridCol w="220968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x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x + 6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5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0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21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32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Text Box 23"/>
          <p:cNvSpPr/>
          <p:nvPr/>
        </p:nvSpPr>
        <p:spPr>
          <a:xfrm>
            <a:off x="5410800" y="29718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11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Text Box 24"/>
          <p:cNvSpPr/>
          <p:nvPr/>
        </p:nvSpPr>
        <p:spPr>
          <a:xfrm>
            <a:off x="5410800" y="37339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16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Text Box 25"/>
          <p:cNvSpPr/>
          <p:nvPr/>
        </p:nvSpPr>
        <p:spPr>
          <a:xfrm>
            <a:off x="5410800" y="449568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2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Text Box 26"/>
          <p:cNvSpPr/>
          <p:nvPr/>
        </p:nvSpPr>
        <p:spPr>
          <a:xfrm>
            <a:off x="5410080" y="5257800"/>
            <a:ext cx="74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3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rite an Algebraic Expression for These Situati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20574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Scott’s brother is 2 years younger than Scott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The sum of two numbers is 12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The difference between two numbers is 5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4115160" y="2743200"/>
            <a:ext cx="114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 - 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4114080" y="4267080"/>
            <a:ext cx="246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v + c = 1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4114800" y="5638680"/>
            <a:ext cx="2332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 – n = 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Definition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Variable – A variable is a letter or symbol that represents a number (unknown quantity)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8 +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= 1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3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3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3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Definition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 variable can use any letter of the alphabet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+ 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– 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- 2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3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3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3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3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3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3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Definition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lgebraic expression – a group of numbers, symbols, and variables that express an operation or a series of operation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m + 8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r – 3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3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3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3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3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Definition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Evaluate an algebraic expression – To find the value of an algebraic expression by substituting numbers for variable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m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+ 8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m = 2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2 + 8 = 10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r – 3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r = 5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5 – 3 = 2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3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3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3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3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3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3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Definition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implify – Combine like terms and complete all operation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 = 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+ 8 + m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2 m + 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(2 x 2) + 8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4 + 8 = 12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3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3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3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3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3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3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3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3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Words That Lead to Addition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um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ore tha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Increased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lu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ltogethe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3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3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3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3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3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3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Words That Lead to Subtraction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Decreased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Les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Differenc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inu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How many mor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3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3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3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3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3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3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rite Algebraic Expressions</a:t>
            </a:r>
            <a:br>
              <a:rPr sz="4400"/>
            </a:b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for These Word Phras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2057040"/>
            <a:ext cx="63244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en more than a numbe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 number decrease by 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6 less than a numbe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 number increased by 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he sum of a number &amp; 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4 more than a numbe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6918480" y="2004840"/>
            <a:ext cx="161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 + 10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6934320" y="2819520"/>
            <a:ext cx="1617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 - 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6934320" y="3657600"/>
            <a:ext cx="120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x - 6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6934680" y="4495680"/>
            <a:ext cx="133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 + 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6934680" y="5257800"/>
            <a:ext cx="133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 + 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6934320" y="6095880"/>
            <a:ext cx="1600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y + 4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2T14:00:10Z</dcterms:created>
  <dc:creator>Mr. Clutter</dc:creator>
  <dc:description/>
  <dc:language>en-US</dc:language>
  <cp:lastModifiedBy>RomaK</cp:lastModifiedBy>
  <dcterms:modified xsi:type="dcterms:W3CDTF">2015-09-04T07:36:07Z</dcterms:modified>
  <cp:revision>8</cp:revision>
  <dc:subject/>
  <dc:title>Algebra- Definitions</dc:title>
</cp:coreProperties>
</file>